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B6E7-009E-4737-A201-37006071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EC5-D52F-4202-A462-8CC96920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96A-DB50-4299-A718-F7598398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C46-BB97-46A2-9D4F-9D9AD5C0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1BA9-108E-446B-AAFA-0C99A1C4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D5D-BE66-44BB-AAFC-82A8F5F0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BD99-EC30-4D75-BD92-20D42C95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E93-A83E-4C83-B142-5B124226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E5F-7C48-4C25-88F5-3EF9183D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773-8413-4BA6-8E0B-57AC81F5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136C-AC98-4EDD-8D5C-9CF4D2AE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7754-C4F5-4415-87EA-4239351B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F8B2-1517-4D29-80B2-53C600890CC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AVES AND MA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pter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ave 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8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DIVI7233220"/>
          <p:cNvPicPr/>
          <p:nvPr/>
        </p:nvPicPr>
        <p:blipFill>
          <a:blip r:embed="rId2"/>
          <a:srcRect l="0" t="-26851" r="0" b="-26851"/>
          <a:stretch/>
        </p:blipFill>
        <p:spPr>
          <a:xfrm>
            <a:off x="457200" y="2174760"/>
            <a:ext cx="4040280" cy="3951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8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DIVI7233221"/>
          <p:cNvPicPr/>
          <p:nvPr/>
        </p:nvPicPr>
        <p:blipFill>
          <a:blip r:embed="rId3"/>
          <a:srcRect l="0" t="-22544" r="0" b="-22544"/>
          <a:stretch/>
        </p:blipFill>
        <p:spPr>
          <a:xfrm>
            <a:off x="4800600" y="2327400"/>
            <a:ext cx="38862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Divided Society of the  Old South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alth divided white Southerners by cla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ce divided all Southerners by cast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nly 4% of whites in the South were large landowners with dozens of slav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d a nice lif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nly 21% of whites owned twenty or less slav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nomic condition much worse and diffic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75% of whites were yeomen farmers who did not own any slav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w slavery as guaranteeing their own liberty and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orld of Southern Bla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0% of slaves lived on plantations or farms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ost in the fiel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al family life difficult for sla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thers cannot always protect childr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ies vulnerable to breakup by ma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ack Christianity becomes the cornerstone (invisible institution) of an emerging African American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ern free blacks severely restri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lave Rebellions and Uprisings, 1800–1831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DIVI7233214"/>
          <p:cNvPicPr/>
          <p:nvPr/>
        </p:nvPicPr>
        <p:blipFill>
          <a:blip r:embed="rId2"/>
          <a:srcRect l="-49381" t="0" r="-4938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istance and Rebell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violent resistance (Nat Turner -1831) but this is not the n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ive Resistance (more popula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anc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slowdow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bo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w ran away to the North (Underground Railro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lanters'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planters set tone and values of Southern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ers prided themselves on patern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olent coercion accepted by all pla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avery defended as a positive g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ricans depicted as inferi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avery defended with B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avery superior to Northern wage la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ScanImage02337.jpeg"/>
          <p:cNvPicPr/>
          <p:nvPr/>
        </p:nvPicPr>
        <p:blipFill>
          <a:blip r:embed="rId2"/>
          <a:stretch/>
        </p:blipFill>
        <p:spPr>
          <a:xfrm>
            <a:off x="1981080" y="0"/>
            <a:ext cx="4657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6510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lavery and the Southern Econo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ite Southerners perceived their economic interests to be tied to slave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er South:  Slave plantation socie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pper South:  Slave-tra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"Short-staple" cotton drove cotton boom and econom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tton gin made seed extraction easy, need for more slave lab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od physical conditions for slaves (to work and breed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7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"Profitability”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it be justified that slavery was not profitable for the South as a who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te small farmers had lower living standards than most Northern far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its from cotton not well-distribu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ave system resulted in waste of human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 stayed under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8:43:05Z</dcterms:created>
  <dc:creator>CMU</dc:creator>
  <dc:description/>
  <cp:keywords/>
  <dc:language>en-US</dc:language>
  <cp:lastModifiedBy>Buffalo Grive High School</cp:lastModifiedBy>
  <cp:lastPrinted>2012-10-11T23:32:59Z</cp:lastPrinted>
  <dcterms:modified xsi:type="dcterms:W3CDTF">2011-10-20T19:32:22Z</dcterms:modified>
  <cp:revision>18</cp:revision>
  <dc:subject/>
  <dc:title>MASTERS AND SLAVES</dc:title>
</cp:coreProperties>
</file>